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250920" y="907920"/>
            <a:ext cx="649080" cy="649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13040" y="6424560"/>
            <a:ext cx="70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OHIM-ITFMD-ITA – WIPO/SDWG - XML Task Forces’Informal Meeting, ST66 Implementations at OHIM - October 23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57360" y="6424560"/>
            <a:ext cx="13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EEC9E45-B7B8-4F03-81D1-B30F82A86B37}" type="slidenum">
              <a:rPr b="0" lang="en-I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IE" sz="1000" spc="-1" strike="noStrike">
                <a:solidFill>
                  <a:srgbClr val="000000"/>
                </a:solidFill>
                <a:latin typeface="Arial"/>
              </a:rPr>
              <a:t> of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a3e"/>
                </a:solidFill>
                <a:latin typeface="Stone Sans ITC TT-Semi"/>
              </a:rPr>
              <a:t>Click to edit the title text format</a:t>
            </a:r>
            <a:endParaRPr b="0" lang="en-US" sz="4400" spc="-1" strike="noStrike">
              <a:solidFill>
                <a:srgbClr val="3b3a3e"/>
              </a:solidFill>
              <a:latin typeface="Stone Sans ITC TT-Sem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05264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48104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91772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349360" indent="-45720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349360" indent="-457200">
              <a:spcBef>
                <a:spcPts val="7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349360" indent="-457200">
              <a:spcBef>
                <a:spcPts val="7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hyperlink" Target="http://demo.oami.europa.eu/trademark/data/EM50000000000001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hyperlink" Target="http://tm-xml.org/TM-XML/TM-XML_xml/TM-XML_Implementations.xml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oami.europa.eu/en/erenew.htm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9640" y="3213000"/>
            <a:ext cx="8061120" cy="722160"/>
            <a:chOff x="539640" y="3213000"/>
            <a:chExt cx="8061120" cy="722160"/>
          </a:xfrm>
        </p:grpSpPr>
        <p:sp>
          <p:nvSpPr>
            <p:cNvPr id="42" name=""/>
            <p:cNvSpPr/>
            <p:nvPr/>
          </p:nvSpPr>
          <p:spPr>
            <a:xfrm>
              <a:off x="609480" y="321300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39640" y="328608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539640" y="4005360"/>
            <a:ext cx="8061120" cy="722160"/>
            <a:chOff x="539640" y="4005360"/>
            <a:chExt cx="8061120" cy="722160"/>
          </a:xfrm>
        </p:grpSpPr>
        <p:sp>
          <p:nvSpPr>
            <p:cNvPr id="45" name=""/>
            <p:cNvSpPr/>
            <p:nvPr/>
          </p:nvSpPr>
          <p:spPr>
            <a:xfrm>
              <a:off x="609480" y="400536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9640" y="407844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39640" y="4797360"/>
            <a:ext cx="8061120" cy="722160"/>
            <a:chOff x="539640" y="4797360"/>
            <a:chExt cx="8061120" cy="722160"/>
          </a:xfrm>
        </p:grpSpPr>
        <p:sp>
          <p:nvSpPr>
            <p:cNvPr id="48" name=""/>
            <p:cNvSpPr/>
            <p:nvPr/>
          </p:nvSpPr>
          <p:spPr>
            <a:xfrm>
              <a:off x="609480" y="479736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9640" y="487044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539640" y="5589720"/>
            <a:ext cx="8061120" cy="722160"/>
            <a:chOff x="539640" y="5589720"/>
            <a:chExt cx="8061120" cy="722160"/>
          </a:xfrm>
        </p:grpSpPr>
        <p:sp>
          <p:nvSpPr>
            <p:cNvPr id="51" name=""/>
            <p:cNvSpPr/>
            <p:nvPr/>
          </p:nvSpPr>
          <p:spPr>
            <a:xfrm>
              <a:off x="609480" y="558972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9640" y="566280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39640" y="2421000"/>
            <a:ext cx="8061120" cy="722160"/>
            <a:chOff x="539640" y="2421000"/>
            <a:chExt cx="8061120" cy="722160"/>
          </a:xfrm>
        </p:grpSpPr>
        <p:sp>
          <p:nvSpPr>
            <p:cNvPr id="54" name=""/>
            <p:cNvSpPr/>
            <p:nvPr/>
          </p:nvSpPr>
          <p:spPr>
            <a:xfrm>
              <a:off x="609480" y="242100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39640" y="249408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41440" y="1627200"/>
            <a:ext cx="8061120" cy="722160"/>
            <a:chOff x="541440" y="1627200"/>
            <a:chExt cx="8061120" cy="722160"/>
          </a:xfrm>
        </p:grpSpPr>
        <p:sp>
          <p:nvSpPr>
            <p:cNvPr id="57" name=""/>
            <p:cNvSpPr/>
            <p:nvPr/>
          </p:nvSpPr>
          <p:spPr>
            <a:xfrm>
              <a:off x="611280" y="1627200"/>
              <a:ext cx="7991280" cy="6494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1440" y="1700280"/>
              <a:ext cx="7991280" cy="649080"/>
            </a:xfrm>
            <a:prstGeom prst="rect">
              <a:avLst/>
            </a:prstGeom>
            <a:gradFill rotWithShape="0">
              <a:gsLst>
                <a:gs pos="0">
                  <a:srgbClr val="cacd9e"/>
                </a:gs>
                <a:gs pos="50000">
                  <a:srgbClr val="ffffff"/>
                </a:gs>
                <a:gs pos="100000">
                  <a:srgbClr val="cacd9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547640" y="907920"/>
            <a:ext cx="727236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6360" y="932040"/>
            <a:ext cx="7162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.66 Implementations at OH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9400" y="1837440"/>
            <a:ext cx="78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M-Search Web Services: Trade Mark Search and Data Retrieval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9040" y="2629800"/>
            <a:ext cx="49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ice Classification Term Information Ex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6520" y="3421800"/>
            <a:ext cx="40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HIM Community Trade Mark Key-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6880" y="5798520"/>
            <a:ext cx="29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HIM B2B E-Filing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2280" y="4941000"/>
            <a:ext cx="78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uroClass-Term Information Exchange (Verification-Validation-Transl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7240" y="421416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HIM CTM-Down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32000" y="907920"/>
            <a:ext cx="756108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907920"/>
            <a:ext cx="82090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.66 Based Trade Mark Retrieval Web Serv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846440"/>
            <a:ext cx="8064360" cy="6476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2062080"/>
            <a:ext cx="8064360" cy="719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1797120"/>
            <a:ext cx="77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rade Mark Retrieva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3"/>
          </p:cNvPr>
          <p:cNvSpPr/>
          <p:nvPr/>
        </p:nvSpPr>
        <p:spPr>
          <a:xfrm>
            <a:off x="755640" y="220680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http://demo.oami.europa.eu/trademark/data/EM50000000000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11280" y="2852640"/>
            <a:ext cx="8208720" cy="984240"/>
            <a:chOff x="611280" y="2852640"/>
            <a:chExt cx="8208720" cy="984240"/>
          </a:xfrm>
        </p:grpSpPr>
        <p:sp>
          <p:nvSpPr>
            <p:cNvPr id="74" name=""/>
            <p:cNvSpPr/>
            <p:nvPr/>
          </p:nvSpPr>
          <p:spPr>
            <a:xfrm>
              <a:off x="611280" y="2901960"/>
              <a:ext cx="8064360" cy="6476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1280" y="3117960"/>
              <a:ext cx="8064360" cy="718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5640" y="2852640"/>
              <a:ext cx="770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ffffff"/>
                  </a:solidFill>
                  <a:latin typeface="Arial"/>
                </a:rPr>
                <a:t>Trade Mark Image Retrieval 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5640" y="3262320"/>
              <a:ext cx="806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http://demo.oami.europa.eu/trademark/image/5000000000000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11280" y="3933720"/>
            <a:ext cx="8208720" cy="984240"/>
            <a:chOff x="611280" y="3933720"/>
            <a:chExt cx="8208720" cy="984240"/>
          </a:xfrm>
        </p:grpSpPr>
        <p:sp>
          <p:nvSpPr>
            <p:cNvPr id="79" name=""/>
            <p:cNvSpPr/>
            <p:nvPr/>
          </p:nvSpPr>
          <p:spPr>
            <a:xfrm>
              <a:off x="611280" y="3983040"/>
              <a:ext cx="8064360" cy="6476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1280" y="4199040"/>
              <a:ext cx="8064360" cy="718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55640" y="3933720"/>
              <a:ext cx="770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ffffff"/>
                  </a:solidFill>
                  <a:latin typeface="Arial"/>
                </a:rPr>
                <a:t>Applicant Information Retrieval 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5640" y="4343400"/>
              <a:ext cx="806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http://demo.oami.europa.eu/trademark/applicant/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11280" y="5013360"/>
            <a:ext cx="8208720" cy="984240"/>
            <a:chOff x="611280" y="5013360"/>
            <a:chExt cx="8208720" cy="984240"/>
          </a:xfrm>
        </p:grpSpPr>
        <p:sp>
          <p:nvSpPr>
            <p:cNvPr id="84" name=""/>
            <p:cNvSpPr/>
            <p:nvPr/>
          </p:nvSpPr>
          <p:spPr>
            <a:xfrm>
              <a:off x="611280" y="5062680"/>
              <a:ext cx="8064360" cy="6476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1280" y="5278320"/>
              <a:ext cx="8064360" cy="719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5640" y="5013360"/>
              <a:ext cx="770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ffffff"/>
                  </a:solidFill>
                  <a:latin typeface="Arial"/>
                </a:rPr>
                <a:t>Representative Information Retrieval 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5423040"/>
              <a:ext cx="806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</a:rPr>
                <a:t>http://demo.oami.europa.eu/trademark/representative/1184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6869880" y="147780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cc0000"/>
                </a:solidFill>
                <a:latin typeface="Comic Sans MS"/>
              </a:rPr>
              <a:t>Test -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53160" y="6021360"/>
            <a:ext cx="584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cc0000"/>
                </a:solidFill>
                <a:latin typeface="Comic Sans MS"/>
              </a:rPr>
              <a:t>Note: Only Authorized IP Addresses are Allowed to Use these Web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43280" y="2133720"/>
            <a:ext cx="4176720" cy="345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2133720"/>
            <a:ext cx="4176720" cy="345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907920"/>
            <a:ext cx="7272360" cy="5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932040"/>
            <a:ext cx="6946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440" y="2349360"/>
            <a:ext cx="3743280" cy="3024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59280" y="2349360"/>
            <a:ext cx="3743280" cy="3024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19:21:40Z</dcterms:created>
  <dc:creator>Alexandre TRAN</dc:creator>
  <dc:description/>
  <dc:language>en-US</dc:language>
  <cp:lastModifiedBy>Yun</cp:lastModifiedBy>
  <dcterms:modified xsi:type="dcterms:W3CDTF">2007-10-23T07:20:05Z</dcterms:modified>
  <cp:revision>55</cp:revision>
  <dc:subject/>
  <dc:title>Slide 1</dc:title>
</cp:coreProperties>
</file>